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1999-2DDB-4F79-ACC8-BB0EFAFFEAC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EE76-506A-4217-92D9-6EC4A38ABAA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2F8F-4299-48FE-BCDC-E870B79CBEEE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5D5-5276-4FE9-9D75-54C056C7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00D-A02A-4F39-90EB-68C312FB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CC2-B1C6-4D4E-9917-C6512D0A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75D-29E6-4D08-A685-A7E7CDBD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F0C-308E-4E92-931C-3E0DDDF8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2FB-85DF-4154-83D2-4F5FD165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961-3009-491E-8F21-BFF55795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453-E063-4C08-96F0-4C44BAB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996-EC87-42EF-B0F9-863795E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E7B-34D2-4F32-90A7-94D4807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FCB-C3C1-4C71-9E6B-7E7D9AB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709-ECD8-4C2C-98FB-88E14CD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032-5BD8-4579-BB07-80F11FA7D966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Cinderella’s Cas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Claudia L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 was aiming for it to look l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000080" y="107172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he shape of a rhombus with the pencil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use the push/pull tool to pull it up and cut out a d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993600" y="192888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000080" y="11430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circle next to the door pull it up with the push/pull tool and cut little squares at the top of the p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at on the other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3600" y="233208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79400" y="23320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785880" y="11430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some shapes on the flat roof (square,rectangle,circle) and pull them up. Then add the roofs to them. For the circular turrets, do this by drawing a triangle and using the follow me tool to drag the triangle around. If you want you could add windows to some of the buildi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680" y="185724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571680" y="11430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t in a few more shapes and on top of the rectangle build 3 towers starting from smallest to tall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928800" y="23320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857160" y="128592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 2 tall towers next to the rectang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two lines across from the tallest tower on the rectangle to connect it to the tallest tower on the flat ro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857160" y="233208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857160" y="16430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you are ready to add col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ould also add in a pool and a gar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ope you enjoyed my Cinderella cas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07:14:58Z</dcterms:created>
  <dc:creator>Diocesan School for Girls</dc:creator>
  <dc:description/>
  <dc:language>en-US</dc:language>
  <cp:lastModifiedBy>Diocesan School for Girls</cp:lastModifiedBy>
  <dcterms:modified xsi:type="dcterms:W3CDTF">2009-09-06T08:38:54Z</dcterms:modified>
  <cp:revision>15</cp:revision>
  <dc:subject/>
  <dc:title>Cinderella’s Castle</dc:title>
</cp:coreProperties>
</file>